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D3F-E2C2-4C85-9929-BC07DA10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E67-1E0F-4AB6-8CF6-8115237A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C13-2D85-4037-A1A2-C889E751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D3D-BB7B-4809-A8AE-4460FC50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BE40-B703-4B53-9121-65650393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958E-594E-48A3-BB44-52BA9F53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992C-ED66-44D2-982C-4600029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CC7C-0415-43F3-86C6-5BC564F3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7B7F-CAD6-4A95-99CA-FB42CC2A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0632-2BDF-4D4C-8822-BECE964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C220-7F0D-43EB-9E88-B035D62C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BB2-F6C6-4EE5-B825-1F0E40B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BDEE-79C3-4EAC-9378-7B86C62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E627-764A-4FF8-B40E-3A5794A8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7454-1D83-41B5-9B4F-AFC06B06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A59D-5326-4CF2-9D32-45F8B03B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C663-E8CD-4ED8-9473-7FCA9D80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A00-AE7F-43DC-9913-86399A88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C58-07A4-45BB-B5F6-0F791DE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326-3763-4F62-BCD8-5EA7F68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554-2F22-4E90-A9EA-DD636279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760-F625-474D-A971-A2C1025A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839-C4EC-40DA-8281-3659A9C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C5C-1F47-481A-B6B8-B18DD38C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5C87-59AC-4547-94AF-3C50470D4F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B96F-1F0A-4DA0-80B3-A209A2236E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 Black"/>
              </a:rPr>
              <a:t>INVESTIGATIONS IN THE SCHOOL YARD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sentation on behalf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MOBERG &amp;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Thrilla in Manil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Privacy Concerns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Educational Rights &amp; Privac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Protect Student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Disclosur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orney/Client Privi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Privac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Arial Black"/>
              </a:rPr>
              <a:t>What should you do after the investigation?</a:t>
            </a:r>
            <a:endParaRPr b="0" lang="en-US" sz="32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bstan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ppropriat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ppropriat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losure to prospective emplo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back to Vic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QUESTIONS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WHO ARE YOU INVESTIGATING?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9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’s A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chool 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s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2666880"/>
            <a:ext cx="3371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What are you looking for?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– E-mails, text messages, phone calls, Internet social networks, personal cards and messages, no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Wit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chool Wit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, Patrons,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00800" y="4479840"/>
            <a:ext cx="23749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What is the nature of the complaint?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l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d inva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d suspicious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ors and/or anonymou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Arial Black"/>
              </a:rPr>
              <a:t>Educator Misconduct Legal Reporting Duties</a:t>
            </a:r>
            <a:endParaRPr b="0" lang="en-US" sz="32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W 26.44.030 (To CPS/Law Enforc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W 28A.400.317 (To Princi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W 28A.320.160 (Report to Par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y to Notify th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C 181-87-110 (To OS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Policy (Best Prac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OSPI Reportable Offenses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C Chapter 181-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/Drug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representation of 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egard of profession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andonment of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ishing alcohol or drugs to min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al misconduct with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Duty to Report to OSPI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C 181-86-1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intendent believes that s/he has sufficient reliabl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a certified employee within the District is not of good moral charac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not personally f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has committed an act of unprofessional condu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Superintendent must within a reasonable period of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written complaint to OS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Investigation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ly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roughly Investigate all alle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immediate and appropriate correctiv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4545000"/>
            <a:ext cx="3151080" cy="210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 Black"/>
              </a:rPr>
              <a:t>WHO SHOULD INVESTIGATE?</a:t>
            </a:r>
            <a:endParaRPr b="0" lang="en-US" sz="3600" spc="-1" strike="noStrike">
              <a:solidFill>
                <a:srgbClr val="42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Invest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ducational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e/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20:47:10Z</dcterms:created>
  <dc:creator/>
  <dc:description/>
  <dc:language>en-US</dc:language>
  <cp:lastModifiedBy/>
  <dcterms:modified xsi:type="dcterms:W3CDTF">2010-03-24T19:20:33Z</dcterms:modified>
  <cp:revision>50</cp:revision>
  <dc:subject/>
  <dc:title> </dc:title>
</cp:coreProperties>
</file>